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6BF-CCC3-4B1A-815D-23B88466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B13-479E-4C21-BC5E-14C70407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0EF-CD98-4715-87D6-884FE3DE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918-F3B6-4D1B-A086-3F484468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D38-96BC-497D-BA62-3C0D8836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00D-10F6-4DE0-B146-2465109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0E3-BB2C-4521-BC6B-A6A57CEF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7F3-7130-4E1E-974C-BE3629D8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EC0-185B-4804-8BAE-228FFAB7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5CD-06F3-4796-BAA9-6C3C398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DB5-8599-453C-A9CD-E8FD353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6E3-0FDD-492F-9BD5-8AC85833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2914-AEB3-47C6-9BD2-DBC9D4EC9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60120" y="-33840"/>
            <a:ext cx="2711880" cy="2679480"/>
            <a:chOff x="-60120" y="-33840"/>
            <a:chExt cx="2711880" cy="26794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240984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 rot="18880800">
              <a:off x="624960" y="1036800"/>
              <a:ext cx="1927080" cy="1084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424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ahoma"/>
                </a:rPr>
                <a:t>P   a   s   c   a   l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ahoma"/>
                <a:ea typeface="Tahoma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9035600">
              <a:off x="48960" y="7772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8837000">
              <a:off x="628200" y="4957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837000">
              <a:off x="900720" y="-3240"/>
              <a:ext cx="27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21:28:13Z</dcterms:created>
  <dc:creator>wander</dc:creator>
  <dc:description/>
  <dc:language>en-US</dc:language>
  <cp:lastModifiedBy>wander</cp:lastModifiedBy>
  <dcterms:modified xsi:type="dcterms:W3CDTF">2009-05-03T16:37:19Z</dcterms:modified>
  <cp:revision>4</cp:revision>
  <dc:subject/>
  <dc:title>Slide 1</dc:title>
</cp:coreProperties>
</file>