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E34-5FA9-4E11-AD7F-DA12CA00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E48-E335-4506-8E84-05892E72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254-A319-4CD1-897F-87216EE3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330-DF06-46CF-99AA-02180410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915-D3AF-48E0-8A0B-FE510BDE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3E9-2FF4-41FC-8AF8-50732209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D1A-C697-4A3A-ACB5-3EECC817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4FF-0EFA-44A6-BC93-9ADA6848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999-A498-407B-8BB8-201E729E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DEC-13CE-4AE2-93BD-179B8AD3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1B9-EC93-4DFE-ADC6-D29FECAB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F45-8E33-4193-8F3A-DDCB35C0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6259-90A6-4AA3-A5D2-393C18D2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7360" y="861840"/>
            <a:ext cx="2303280" cy="1439640"/>
            <a:chOff x="117360" y="861840"/>
            <a:chExt cx="2303280" cy="1439640"/>
          </a:xfrm>
        </p:grpSpPr>
        <p:sp>
          <p:nvSpPr>
            <p:cNvPr id="42" name=""/>
            <p:cNvSpPr/>
            <p:nvPr/>
          </p:nvSpPr>
          <p:spPr>
            <a:xfrm>
              <a:off x="117360" y="861840"/>
              <a:ext cx="1655640" cy="79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858390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000" y="1077480"/>
              <a:ext cx="1656000" cy="79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858390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9000" y="1293480"/>
              <a:ext cx="1655640" cy="79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858390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5000" y="1509480"/>
              <a:ext cx="1655640" cy="79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858390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xt J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HTML 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786120" y="870120"/>
            <a:ext cx="1656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ExtToPascal.dp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4920" y="900000"/>
            <a:ext cx="165564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26120" y="1116000"/>
            <a:ext cx="1656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16920" y="1332000"/>
            <a:ext cx="1655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32560" y="1547640"/>
            <a:ext cx="16560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Ext, ExtGlobal, ExtDat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xtUtil,ExtForm,ExtGrid,et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64440" y="3708360"/>
            <a:ext cx="165564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Self-transla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ExtPascal.p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7840" y="99072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303200">
            <a:off x="5457600" y="2724120"/>
            <a:ext cx="2054160" cy="647640"/>
          </a:xfrm>
          <a:prstGeom prst="rightArrow">
            <a:avLst>
              <a:gd name="adj1" fmla="val 50000"/>
              <a:gd name="adj2" fmla="val 7929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4920" y="3689280"/>
            <a:ext cx="165564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tPas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3840" y="2513160"/>
            <a:ext cx="648000" cy="1008000"/>
          </a:xfrm>
          <a:prstGeom prst="downArrow">
            <a:avLst>
              <a:gd name="adj1" fmla="val 50000"/>
              <a:gd name="adj2" fmla="val 38889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70920" y="5796000"/>
            <a:ext cx="1655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JavaScript u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Ext JS clas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73840" y="4645080"/>
            <a:ext cx="648000" cy="1008000"/>
          </a:xfrm>
          <a:prstGeom prst="downArrow">
            <a:avLst>
              <a:gd name="adj1" fmla="val 50000"/>
              <a:gd name="adj2" fmla="val 38889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59120" y="774720"/>
            <a:ext cx="28872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07240" y="774720"/>
            <a:ext cx="28872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8200" y="3171960"/>
            <a:ext cx="28872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05440" y="2747880"/>
            <a:ext cx="28908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40840" y="4861080"/>
            <a:ext cx="28872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7480" y="3689280"/>
            <a:ext cx="16560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27800" y="99684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21080" y="338940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50200" y="2700360"/>
            <a:ext cx="28908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2000" y="4175280"/>
            <a:ext cx="1152360" cy="610920"/>
          </a:xfrm>
          <a:prstGeom prst="leftArrow">
            <a:avLst>
              <a:gd name="adj1" fmla="val 50000"/>
              <a:gd name="adj2" fmla="val 4715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160000">
            <a:off x="5332320" y="4858920"/>
            <a:ext cx="2001960" cy="657360"/>
          </a:xfrm>
          <a:prstGeom prst="leftArrow">
            <a:avLst>
              <a:gd name="adj1" fmla="val 50000"/>
              <a:gd name="adj2" fmla="val 7613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46920" y="5435640"/>
            <a:ext cx="28872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2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tPascal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9360" y="5791320"/>
            <a:ext cx="1655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FastCG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Multithread Environ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FCGIApp.p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123440" y="4823280"/>
            <a:ext cx="1017720" cy="647640"/>
          </a:xfrm>
          <a:prstGeom prst="rightArrow">
            <a:avLst>
              <a:gd name="adj1" fmla="val 50000"/>
              <a:gd name="adj2" fmla="val 3928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5084640"/>
            <a:ext cx="288720" cy="28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440" y="2597040"/>
            <a:ext cx="165564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t JS f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ExtFixes.tx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4273560" y="1807920"/>
            <a:ext cx="717480" cy="647640"/>
          </a:xfrm>
          <a:prstGeom prst="rightArrow">
            <a:avLst>
              <a:gd name="adj1" fmla="val 50000"/>
              <a:gd name="adj2" fmla="val 276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67280" y="2060640"/>
            <a:ext cx="28872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4724280"/>
            <a:ext cx="28872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82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tPascal using native FastC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1206360"/>
            <a:ext cx="12240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33720" y="1206360"/>
            <a:ext cx="121464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51800" y="1197000"/>
            <a:ext cx="1223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t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3080" y="1312920"/>
            <a:ext cx="1439640" cy="576360"/>
          </a:xfrm>
          <a:prstGeom prst="leftRightArrow">
            <a:avLst>
              <a:gd name="adj1" fmla="val 50000"/>
              <a:gd name="adj2" fmla="val 497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2300" dir="62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21440" y="1312920"/>
            <a:ext cx="1439640" cy="576360"/>
          </a:xfrm>
          <a:prstGeom prst="leftRightArrow">
            <a:avLst>
              <a:gd name="adj1" fmla="val 50000"/>
              <a:gd name="adj2" fmla="val 497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2300" dir="62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CGI Proto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90440" y="3429000"/>
            <a:ext cx="122400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08520" y="3429000"/>
            <a:ext cx="121428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26240" y="3419640"/>
            <a:ext cx="122400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CG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Gatew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CGIGateway.dp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87520" y="3535200"/>
            <a:ext cx="1440000" cy="576360"/>
          </a:xfrm>
          <a:prstGeom prst="leftRightArrow">
            <a:avLst>
              <a:gd name="adj1" fmla="val 50000"/>
              <a:gd name="adj2" fmla="val 497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2300" dir="62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95880" y="3535200"/>
            <a:ext cx="1440000" cy="576360"/>
          </a:xfrm>
          <a:prstGeom prst="leftRightArrow">
            <a:avLst>
              <a:gd name="adj1" fmla="val 50000"/>
              <a:gd name="adj2" fmla="val 497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2300" dir="62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GI Proto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5600" y="5805360"/>
            <a:ext cx="12240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t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6626160" y="4719600"/>
            <a:ext cx="1439640" cy="576000"/>
          </a:xfrm>
          <a:prstGeom prst="leftRightArrow">
            <a:avLst>
              <a:gd name="adj1" fmla="val 50000"/>
              <a:gd name="adj2" fmla="val 497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40186" dir="97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CGI Proto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20" y="256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tPascal using FastCGI through CGI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68360" y="1197000"/>
            <a:ext cx="122400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1187280"/>
            <a:ext cx="12240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t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65440" y="1303200"/>
            <a:ext cx="1440000" cy="576360"/>
          </a:xfrm>
          <a:prstGeom prst="leftRightArrow">
            <a:avLst>
              <a:gd name="adj1" fmla="val 50000"/>
              <a:gd name="adj2" fmla="val 497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2300" dir="62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2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tPascal using Embedded Web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3:22:17Z</dcterms:created>
  <dc:creator>wander</dc:creator>
  <dc:description/>
  <dc:language>en-US</dc:language>
  <cp:lastModifiedBy>Call Tecnologia e Serviços Ltda</cp:lastModifiedBy>
  <dcterms:modified xsi:type="dcterms:W3CDTF">2009-07-13T20:14:26Z</dcterms:modified>
  <cp:revision>28</cp:revision>
  <dc:subject/>
  <dc:title>Slide 1</dc:title>
</cp:coreProperties>
</file>